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BE8B-E0F2-45E0-A271-E3C33CCF8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reading slide, demonstrate by knocking something over, blowing up a balloon and popping it, lighting a candle and blowing it out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cause and effect for the students by underlining the cause and circling the eff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students how to use this chart by referring back to example sentences (slide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students with a copy of this slide and slide 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back to slide 4 to find the signal words and examine how they were u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621E-ECC4-4F5F-B69F-5F15D88AA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D1D6-C3A4-404B-8823-F428EF6F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0F42-9B67-4D39-9B1A-E650EB1CF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14F8-4427-49C4-8A28-3086AA2AE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8994-D3EB-4FC4-8255-B8FE92E6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3067-08BE-453F-BCD3-77CF6ADF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8B77-6DB1-455A-9237-3A267B35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2785-8BDF-4D8F-9091-999F71F3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4B5B-8121-4C38-B60F-E6010467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D0D7-38FC-4376-9936-104B9FBF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1DEF-DE3D-48BE-8B1B-2BAB7DDB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62F2-71B0-47B5-9E21-8EF8DC5A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AE25-4C07-4B8D-861B-8ACE722C6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yriad Web Pro"/>
              </a:rPr>
              <a:t>The Text Structure of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Myriad Web Pro"/>
              </a:rPr>
              <a:t>Cause and Ef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5c5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structional Focus:</a:t>
            </a:r>
            <a:br>
              <a:rPr sz="40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oday’s lesson we will learn how knowing and understanding the way in which a text is written can help us as readers better understand what we read. We will focus today on the text structure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use and effect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et me demonstrate cause and effect for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2447640"/>
            <a:ext cx="7632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j0439422" descr=""/>
          <p:cNvPicPr/>
          <p:nvPr/>
        </p:nvPicPr>
        <p:blipFill>
          <a:blip r:embed="rId1"/>
          <a:stretch/>
        </p:blipFill>
        <p:spPr>
          <a:xfrm>
            <a:off x="-380880" y="0"/>
            <a:ext cx="10058400" cy="70102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85840" y="914040"/>
            <a:ext cx="525780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-Bold"/>
              </a:rPr>
              <a:t>A</a:t>
            </a:r>
            <a:r>
              <a:rPr b="1" lang="en-US" sz="2400" spc="-1" strike="noStrike">
                <a:solidFill>
                  <a:srgbClr val="66ccff"/>
                </a:solidFill>
                <a:latin typeface="Times-Bold"/>
              </a:rPr>
              <a:t> cause</a:t>
            </a:r>
            <a:r>
              <a:rPr b="1" lang="en-US" sz="2400" spc="-1" strike="noStrike">
                <a:solidFill>
                  <a:srgbClr val="ccccff"/>
                </a:solidFill>
                <a:latin typeface="Times-Bol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 why something happens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use actually MAKES something else happ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-Bold"/>
              </a:rPr>
              <a:t>An </a:t>
            </a:r>
            <a:r>
              <a:rPr b="1" lang="en-US" sz="2400" spc="-1" strike="noStrike">
                <a:solidFill>
                  <a:srgbClr val="66ccff"/>
                </a:solidFill>
                <a:latin typeface="Times-Bold"/>
              </a:rPr>
              <a:t>effect</a:t>
            </a:r>
            <a:r>
              <a:rPr b="1" lang="en-US" sz="2400" spc="-1" strike="noStrike">
                <a:solidFill>
                  <a:srgbClr val="ffffff"/>
                </a:solidFill>
                <a:latin typeface="Times-Bol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 what happens; </a:t>
            </a:r>
            <a:r>
              <a:rPr b="1" i="1" lang="en-US" sz="2400" spc="-1" strike="noStrike">
                <a:solidFill>
                  <a:srgbClr val="ffffff"/>
                </a:solidFill>
                <a:latin typeface="Times-Italic"/>
              </a:rPr>
              <a:t>it’s the resul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 effect can become a cause for another ev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n TAKS, cause and effect is often phrased as a why qu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c5c5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et’s take a look at some examp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69440" indent="-469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MT"/>
              </a:rPr>
              <a:t>Rosa saved her money for more than one year, so now she is buying a new bi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440" indent="-469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MT"/>
              </a:rPr>
              <a:t>Last year, many students ate too much greasy food. As a result, they gained too much we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440" indent="-469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MT"/>
              </a:rPr>
              <a:t>Roberto studied politics; therefore, he became a lawy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440" indent="-469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MT"/>
              </a:rPr>
              <a:t>The weather was cold; consequently, Sarah put on her scar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440" indent="-469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MT"/>
              </a:rPr>
              <a:t>In 2002, numerous rainforests were cut down. As a result, the habitats of many animals were destroy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80880" y="838080"/>
          <a:ext cx="8382240" cy="5715000"/>
        </p:xfrm>
        <a:graphic>
          <a:graphicData uri="http://schemas.openxmlformats.org/drawingml/2006/table">
            <a:tbl>
              <a:tblPr/>
              <a:tblGrid>
                <a:gridCol w="4191120"/>
                <a:gridCol w="4191120"/>
              </a:tblGrid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Ca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43000" y="533520"/>
            <a:ext cx="6781680" cy="65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MT"/>
              </a:rPr>
              <a:t>Cause and Effect Signal Wo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MT"/>
              </a:rPr>
              <a:t>si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MT"/>
              </a:rPr>
              <a:t>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MT"/>
              </a:rPr>
              <a:t>consequ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MT"/>
              </a:rPr>
              <a:t>as a res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MT"/>
              </a:rPr>
              <a:t>ther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MT"/>
              </a:rPr>
              <a:t>for this rea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MT"/>
              </a:rPr>
              <a:t>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MT"/>
              </a:rPr>
              <a:t>du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did a great job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03:24:15Z</dcterms:created>
  <dc:creator>Lydia Sanchez</dc:creator>
  <dc:description/>
  <dc:language>en-US</dc:language>
  <cp:lastModifiedBy>Lydia Sanchez</cp:lastModifiedBy>
  <dcterms:modified xsi:type="dcterms:W3CDTF">2009-10-05T05:13:03Z</dcterms:modified>
  <cp:revision>4</cp:revision>
  <dc:subject/>
  <dc:title>Cause and Effect</dc:title>
</cp:coreProperties>
</file>